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E43-D7F1-4A24-808C-71930558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900-9BE9-4CB6-8265-DF3BA631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FDDC7-B8CB-438F-A762-63F66B3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79C71-C8C5-415F-AD78-988B6922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16AB3-FB1C-4A67-8CEB-F62BAF22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1B9E1-B3D0-4FE9-A2F9-FF9D9D4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58F24-8ABD-43D9-AED3-A681F702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4571A-6B47-4D3C-8527-F3594274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C457D-103F-4983-B09F-9BBDAE54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48C07-2957-4925-9E07-EEA44FF8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AAD62-B930-41A6-B8AA-8F72D35A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7A86B-A9B0-4DF5-8E4C-762FF9C7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AF7-52EA-42BA-A766-B7268DF6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E1F75-E6E4-4CF7-ADCD-BED2F897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EE8BB-9CAC-46A7-9ED9-787BEEE1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7AF6E-C97C-4AFB-AD89-E8897B4C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44F56-3D26-486B-B1D7-BFA4EB25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A0A56-5605-4926-B519-0FD3D1D8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030E9-F689-422F-8C3F-0E78880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442CE-2D10-4D02-A56A-A869B8D6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090A1-D8AE-41C9-B631-F3C778A0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E976B-6AD9-46BD-A356-F596257F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A127F-35F1-4FEC-B002-F6509C11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493-3ECF-4299-BBCB-704FBD59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B08E9-7F11-48FD-AD67-C2C2C035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FD06E-52F3-488E-A541-B5E4BE2A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63E9-E35B-406A-B195-9B8BED4F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F0262-C67E-48D1-AB38-850C71C7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6E644-7C14-4B93-8C0E-ACE2552B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1FD8A-C84F-438F-BCD4-291806E8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E33C3-B4A6-4BDD-9AC7-AAFB796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F3A47-0FCB-4825-B646-A340893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A7E3C-A87E-4BA2-9B39-47993CD5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7F55A-0583-4EC4-B7E0-54C5ED4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9447-7522-4509-A43B-A5E92507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46E6C-1CA9-4D47-9879-1E4F128D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23C20-737E-4CC2-8E60-371B0DD2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A889B-98BC-4398-BF5A-E56BA0C6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2523B-0DF1-4146-A2D4-BE8A8695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1ADF0-2C3D-4F12-9907-3A152013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6D62F-5A8E-490F-B974-A2043D62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F80B3-5880-4AAF-9D8A-D22B0E3E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64300-9A2D-40DE-A52F-7458A7DD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85F05-CC60-473B-AA65-42D1705D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71576-CC64-4036-9A1F-B844552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63C-89ED-4A90-A20F-06761005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5BAE9-7181-461E-BDCC-9E9D78A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E3C5C-A813-4617-9457-E35FAE8F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E1BAB-DF6E-4C9D-9A20-C6486EA3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4E3D5-BE1B-4D51-A44A-7A7A8175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F8F54-E500-4B7A-B4C5-00C0D0BA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FC69-6A4C-408E-8781-1157CEF8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22DA-A46F-4C85-94DA-7950B057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F7CB-73EC-4F0F-891C-F48D87A6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57BF-2F9A-411E-994C-484AC78B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D3A4-C336-4C87-B838-29601E8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306-E49B-42BA-85E9-D42805BA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4FB1-470D-47DC-B5D5-4C89F2B5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A7BB-2ECA-4655-8F0C-97F6FCA5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6BC8-0617-4E86-862C-BA89C667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133E-A108-40A4-B999-B3B57E7B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2B77-F443-4B35-B2FA-7B06E934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16FE-4583-4BCB-8903-64F57C07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308C-2AC6-4A66-BC06-6EA0C2E2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21EF-3C7E-427E-A4BD-49AA5AAE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CB8E-9133-4B04-960D-80661FDA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1BF3-FD54-4C9C-9D65-3E86C1F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92F-1F15-48BA-AA90-B2F5C916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79B4-F121-44B3-9DEE-E78B918B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379E-92EF-47FC-9208-7149E30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99F8-35A6-4E50-AAB4-3D74EA7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3FF7-F600-46D8-86D7-2995C3B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69F2-8358-4C50-8250-672C4741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DA3A-67A0-455E-AFC0-B241CAD7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CAAD-C812-4FBC-AEBC-E9C67B41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5360-DB96-45A0-906D-A0C00013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D5E3-E6A9-49B9-A4AA-FFB0474E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62DE-C43D-46FE-BA74-6F9A119C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230-C0CE-49B6-9904-AB09A078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6AE8-0977-48B1-9F0B-622611D5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47ED-9450-4815-8868-A46ADADD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48C71-AC80-48C1-B957-B6FF534A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54E3-7AF5-4888-B5AA-21F6D1B2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43EE-9431-4743-A763-4CF41CED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4B1F-6CF1-4AC0-87C3-895B55A2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1E85-CDC1-4FFB-AFF0-CC28FD03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D66FD-AA2A-4D51-B666-E9FC8F7F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4F37-E6B9-4FE1-B475-2B4B723C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F378-6FA0-442C-BA67-2A607F1B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924-B789-45A2-8CA5-EEC4A1EE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BC348-B73B-41AD-A192-39D27DBB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85BA6-025A-40F7-B68E-49DB827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7A82C-BF89-4B1B-A8AE-A44C2C18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6AF2C-401C-4326-8CD8-2392679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0041F-7F73-46CD-8C99-B2B6F22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41D5D-AD53-433D-B894-117A973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2D79-E980-43DD-94B9-EF675AC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7209A-982A-452E-84FD-59210E1B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7BC00-7C3E-4B52-AA14-2D9D73A5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7C7E-FA8F-4EA1-98BD-BF33AD06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0AA-C06F-4B47-BC2C-A7C7AA3D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98C00-AECF-434F-A0BC-9EFF9B8D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F2C53-5A31-4555-9368-C9DA56BB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C51E6-11D3-4F14-AC24-B3E58857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1DAD3-8A28-4DBE-B4F5-737B0561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F1204-DF4D-418C-9C15-016E360C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E3AB6-6ECE-4FCD-A79C-2D21FDAA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1840A-664F-4479-8F47-7BADE985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07FD-BBA2-46F8-A96B-E0CECA1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19397-FFEB-4734-BB64-86129FEC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98F4D-6A95-4BCC-845C-A942793D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89C-AC1F-4227-BE4F-E6A75BB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25323-8131-4EAA-BCF1-B88676F0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32330-83E8-4696-A7D5-4D24D3AB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3EDC0-9496-4BEC-A07F-70B6943E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345C-FB21-4799-8460-D0F956B2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FC9EA-53F8-43A1-9E2B-CE903F79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5FDD-D8F7-47FE-89BF-07D63C19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60C24-C173-4D88-A5AA-AA50CDB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3DCCD-B50C-4177-9523-6849D58F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E0893-2E62-4D6E-90C0-9ADBC36A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82CC7-65C0-4EBD-8EB6-8EE212E7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C41-AC19-4C50-A17C-00330397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69B6C-56C3-4B29-9573-00DD9173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C2AF1-76DB-4A00-B324-792F0B8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0393D-0AEF-4F66-B8EA-87041240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AEA3B-842D-44E1-BB8A-D4500B40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F7A58-C6C1-4204-90AD-B9CF5B98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8AE85-CEF1-4C15-950A-6CAE8D6D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13B1E-8A5C-4770-8DD0-A8CC2E95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8C41C-A66C-4491-B1F8-7450CB5B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F6162-66F6-4D7C-A126-5C143049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25EC-F191-4E72-932B-B4CB3BFF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E15-2755-497A-9127-EE5BA8D7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4928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084B-1B7F-4BD8-A055-905E50C2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9136C-57C4-48F5-A854-FC2F53A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491C0-5416-47B9-A091-B2D86BC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8B41E-FE69-47A9-979D-B2C649F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45548-836D-40C8-9BB1-1F73E148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D1943-FDCE-45D6-9A34-7D19C357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B5D48-C1D9-40C0-8A93-84C849A4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13250-3DD3-4E22-8128-99274766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3E9AE-3AE6-431D-AD6A-9C9DF3C1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AD77E-7D05-4FB7-82B2-AAE73B09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A064-ACF0-46C7-B763-048E8FE98B2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-4680"/>
            <a:ext cx="9144000" cy="718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43F-5B70-403B-A773-748D6FBD30D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6" descr=""/>
          <p:cNvPicPr/>
          <p:nvPr/>
        </p:nvPicPr>
        <p:blipFill>
          <a:blip r:embed="rId3"/>
          <a:stretch/>
        </p:blipFill>
        <p:spPr>
          <a:xfrm>
            <a:off x="0" y="-144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B128-5956-4A2E-ADA9-CB76BB81960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E043-F0BF-4922-B403-754322E931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1CE0-E191-4B63-AA30-6D629967BC1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CE3-53E4-4666-B705-79B6B63C609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0CA4-41FE-4553-9807-84563BD5C27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2333-C21A-4E5C-919E-68C78E40A3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6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6400-F962-4E84-9E47-4669C2FA57C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6" descr=""/>
          <p:cNvPicPr/>
          <p:nvPr/>
        </p:nvPicPr>
        <p:blipFill>
          <a:blip r:embed="rId3"/>
          <a:stretch/>
        </p:blipFill>
        <p:spPr>
          <a:xfrm>
            <a:off x="-792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3DA7-D4AB-49BE-AAD0-D163BC0CFA0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4E9-B5BF-4F86-984D-9F37C1D6128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D3D2-ECB9-4540-98F0-E70A3D0858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c3324"/>
                </a:solidFill>
                <a:latin typeface="Arial"/>
                <a:ea typeface="Arial"/>
              </a:rPr>
              <a:t>Pokusi u fizi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1237320" y="186516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Čime se bavi fizi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2"/>
          <a:srcRect l="2788" t="0" r="0" b="0"/>
          <a:stretch/>
        </p:blipFill>
        <p:spPr>
          <a:xfrm>
            <a:off x="7086600" y="3962520"/>
            <a:ext cx="1828800" cy="23382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4"/>
          <p:cNvSpPr/>
          <p:nvPr/>
        </p:nvSpPr>
        <p:spPr>
          <a:xfrm>
            <a:off x="1041480" y="258444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izika opisuje materiju i međudjelovanje mate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495360" y="3179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ključena je u osnove svih prirodnih znanosti i razvoj tehnolog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Slika 1" descr=""/>
          <p:cNvPicPr/>
          <p:nvPr/>
        </p:nvPicPr>
        <p:blipFill>
          <a:blip r:embed="rId3"/>
          <a:stretch/>
        </p:blipFill>
        <p:spPr>
          <a:xfrm>
            <a:off x="466560" y="4098960"/>
            <a:ext cx="3048120" cy="2065320"/>
          </a:xfrm>
          <a:prstGeom prst="rect">
            <a:avLst/>
          </a:prstGeom>
          <a:ln w="0">
            <a:noFill/>
          </a:ln>
        </p:spPr>
      </p:pic>
      <p:pic>
        <p:nvPicPr>
          <p:cNvPr id="511" name="Slika 2" descr=""/>
          <p:cNvPicPr/>
          <p:nvPr/>
        </p:nvPicPr>
        <p:blipFill>
          <a:blip r:embed="rId4"/>
          <a:stretch/>
        </p:blipFill>
        <p:spPr>
          <a:xfrm>
            <a:off x="3727440" y="4224240"/>
            <a:ext cx="3154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2"/>
          <p:cNvSpPr/>
          <p:nvPr/>
        </p:nvSpPr>
        <p:spPr>
          <a:xfrm>
            <a:off x="3172320" y="144792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Fizička velič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22093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elj fizike su fizičke veličine i s pomoću njih se izražavaju zakoni fizik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Slika 1" descr=""/>
          <p:cNvPicPr/>
          <p:nvPr/>
        </p:nvPicPr>
        <p:blipFill>
          <a:blip r:embed="rId1"/>
          <a:stretch/>
        </p:blipFill>
        <p:spPr>
          <a:xfrm>
            <a:off x="3276720" y="3494160"/>
            <a:ext cx="45925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676160"/>
            <a:ext cx="777240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ojstva tijela ili fizičke pojave koje možemo mjeriti nazivam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zičkom veličin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aka fizička veličina ima svoju brojčanu vrijednost i mjernu jedini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2"/>
          <p:cNvSpPr/>
          <p:nvPr/>
        </p:nvSpPr>
        <p:spPr>
          <a:xfrm>
            <a:off x="1375920" y="100332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rijable i k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26520" y="1514520"/>
            <a:ext cx="49309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izičke veličine koje se u određenom pokusu mijenjaju nazivaju se varijablama ili promjenjivim veliči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352440" y="3871800"/>
            <a:ext cx="41688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izičke veličine koje se u određenom pokusu ne mijenjaju stalne su veličine il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Slika 2" descr=""/>
          <p:cNvPicPr/>
          <p:nvPr/>
        </p:nvPicPr>
        <p:blipFill>
          <a:blip r:embed="rId1"/>
          <a:stretch/>
        </p:blipFill>
        <p:spPr>
          <a:xfrm>
            <a:off x="5105520" y="1427040"/>
            <a:ext cx="20667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2"/>
          <p:cNvSpPr/>
          <p:nvPr/>
        </p:nvSpPr>
        <p:spPr>
          <a:xfrm>
            <a:off x="228600" y="1600200"/>
            <a:ext cx="6858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Hipot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je pretpostavka koju postavljamo na početku pokusa.Znanstvenu hipotezu mora biti moguće provjeriti. Utvrđena i dokazana hipoteza čini teorijski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2"/>
          <p:cNvSpPr/>
          <p:nvPr/>
        </p:nvSpPr>
        <p:spPr>
          <a:xfrm>
            <a:off x="228600" y="16002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ri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prije izvođenja utvrdi koji pribor i koji mjerni uređaji su ti potrebni za izvođenje pok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2"/>
          <p:cNvSpPr/>
          <p:nvPr/>
        </p:nvSpPr>
        <p:spPr>
          <a:xfrm>
            <a:off x="330120" y="285768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zultati mjerenja i zaključ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52280" y="1127160"/>
            <a:ext cx="8229600" cy="18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U mjerenjima često nastaju pogreške zbo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epažnje pri izvođenju poku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graničenja mjernih uređa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Content Placeholder 2"/>
          <p:cNvSpPr/>
          <p:nvPr/>
        </p:nvSpPr>
        <p:spPr>
          <a:xfrm>
            <a:off x="272880" y="3530520"/>
            <a:ext cx="82296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Rezultat se izražava brojčanom vrijednošću i mjernom jedin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ključak iznosimo u skladu s postavljenom hipotez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170640" y="6238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greška mjer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Slika 1" descr=""/>
          <p:cNvPicPr/>
          <p:nvPr/>
        </p:nvPicPr>
        <p:blipFill>
          <a:blip r:embed="rId1"/>
          <a:stretch/>
        </p:blipFill>
        <p:spPr>
          <a:xfrm>
            <a:off x="4824360" y="4648320"/>
            <a:ext cx="388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49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752120"/>
            <a:ext cx="8077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Što je fizička veličin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ao primjer  navedite tri fizičke  veliči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3. 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Što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ma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vaka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izička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veličin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Navedite mjerne jedinice za vrije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Što su varijab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Kako nazivamo fizičke veličine koje ne mijenjamo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u pokusu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Zašto mjerenja ponavljamo nekoliko put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Što sve može utjecati na vrijeme koje nam je      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potrebno da napišemo domaću zadaću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Slika 4" descr=""/>
          <p:cNvPicPr/>
          <p:nvPr/>
        </p:nvPicPr>
        <p:blipFill>
          <a:blip r:embed="rId1"/>
          <a:stretch/>
        </p:blipFill>
        <p:spPr>
          <a:xfrm>
            <a:off x="685800" y="774720"/>
            <a:ext cx="32385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Hp</cp:lastModifiedBy>
  <dcterms:modified xsi:type="dcterms:W3CDTF">2020-09-08T04:48:18Z</dcterms:modified>
  <cp:revision>37</cp:revision>
  <dc:subject/>
  <dc:title>Slide 1</dc:title>
</cp:coreProperties>
</file>